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EDED-32F3-4BF6-8C98-C7CE231C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8170-D1BC-46C6-BE8E-F40BF152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5391-2D04-4E57-8919-0982CF452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9E76-036F-4FF4-9CB0-790A53E52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4D04-4189-485B-A1F0-FC161172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33E3-AC67-481D-8881-70D9931B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A67B-B941-4040-913C-59A4A2C9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4526-4D36-4521-AE9E-41A78205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3733-FDBC-46E6-8523-A54F2A6D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7C32-557F-47EA-9130-2B1208CC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8A79-9F68-430F-95A4-02DB27B2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E458-EE86-441F-BD70-2574E4D8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8961-133A-452D-87D4-D57370CD60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6DEC-32FD-409E-AB33-836A93DEC9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3"/>
          <p:cNvSpPr/>
          <p:nvPr/>
        </p:nvSpPr>
        <p:spPr>
          <a:xfrm>
            <a:off x="990720" y="1143000"/>
            <a:ext cx="7315200" cy="4267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Title 1" descr=""/>
          <p:cNvPicPr/>
          <p:nvPr/>
        </p:nvPicPr>
        <p:blipFill>
          <a:blip r:embed="rId1"/>
          <a:stretch/>
        </p:blipFill>
        <p:spPr>
          <a:xfrm>
            <a:off x="682560" y="2120760"/>
            <a:ext cx="7858080" cy="2530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304920"/>
            <a:ext cx="8229600" cy="1295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How do you write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a dependent claus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Very easily . .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tart with a perfectly good independent clause (a complete thought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dd an appropriate </a:t>
            </a: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subordinating conjunction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at the beginning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Which words act </a:t>
            </a: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as subordinating conjunc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ere are some common subordinating conjunc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also known as “subordinators”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When       During                            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Where      Until                            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While        Afte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Why           Befor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Although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Becaus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WARNING! WARNING! WARNING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EN YOU WRITE A DEPENDENT CLAUSE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YOU MUST “ATTACH” IT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O A COMPLETE SENTENCE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533520" y="380880"/>
            <a:ext cx="8153280" cy="56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CAUSE IT </a:t>
            </a: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IS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Calibri"/>
              </a:rPr>
              <a:t>DEPENDE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CAUSE IT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DOES NOT EXPRESS A COMPLETE THOUGH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CAUSE IF YOU LEAVE IT STANDING THERE ALL BY ITSELF, IT WILL  BECOME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A SENTENCE FRAGME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 QUICK REVIEW . . 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CLAUSE HAS A SUBJECT/VER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ME CLAUSES CAN STAND ALONE AS COMPLETE SENTENCES (INDEPENDENT CLAUSE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 SOME CLAUSES CANNOT STAND ALONE AS COMPLETE SENTENCES (DEPENDENT CLAUSE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4. DEPENDENT CLAUSES BEGIN WITH SUBORDINATING CONJUNCTIONS (AKA “SUBORDINATORS”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5. DEPENDENT CLAUSES CAN BE WRITTEN TO FIX RUN-ON SENTEN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6. DEPENDENT CLAUSES CAN BE WRITTEN TO IMPROVE SENTENCE STRUCTURE BY ELIMINATING SHORT, CHOPPY SENTEN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 Now that you have a dependent clause, put a comma after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. Now write a complete sentence to follow it so that it is not standing there all by itsel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. Now be amazed . . . You have just written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a </a:t>
            </a:r>
            <a:r>
              <a:rPr b="1" lang="en-US" sz="3200" spc="-1" strike="noStrike" u="sng">
                <a:solidFill>
                  <a:srgbClr val="c00000"/>
                </a:solidFill>
                <a:uFillTx/>
                <a:latin typeface="Calibri"/>
              </a:rPr>
              <a:t>complex sentenc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Now do it again, 4 more times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using a different subordinat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onjunction each tim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e3b37"/>
              </a:gs>
              <a:gs pos="100000">
                <a:srgbClr val="9b2d2a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OUR TYPES OF SENTENCE STRUC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SIMPLE SENTENC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= ONE INDEPENDENT   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AU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COMPOUND SENTENC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= TWO OR MO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NDEPENDENT CLAU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COMPLEX SENTENC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= ONE INDEPENDENT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AUSE + ONE (OR MORE) DEPENDENT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AU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COMPOUND-COMPLEX SENTENC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= TWO OR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MORE INDEPENDENT CLAUSES + AT LEAST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NE DEPENDENT CLAUS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1066320"/>
            <a:ext cx="8305560" cy="53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So, like, what is </a:t>
            </a:r>
            <a:r>
              <a:rPr b="1" lang="en-US" sz="4400" spc="-1" strike="noStrike" u="sng">
                <a:solidFill>
                  <a:srgbClr val="002060"/>
                </a:solidFill>
                <a:uFillTx/>
                <a:latin typeface="Calibri"/>
              </a:rPr>
              <a:t>a clause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, Du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 . . 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F YOU CAN WRITE AN INDEPENDENT CLAUSE (WHICH YOU CAN) AND IF YOU CAN WRITE A DEPENDENT CLAUSE (WHICH YOU CAN), THEN 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YOU CAN STRUCTURE YOUR SENTENCES IN FOUR DIFFERENT KINDS OF WAY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BEING ABLE TO CONSTRUCT SIMPLE, COMPOUND, COMPLEX, AND COMPOUND-COMPLEX SENTENCES WILL 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ADD VARIETY AND STYLE TO YOUR WRITING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4952880" y="4419720"/>
            <a:ext cx="3733920" cy="1904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Oval 8"/>
          <p:cNvSpPr/>
          <p:nvPr/>
        </p:nvSpPr>
        <p:spPr>
          <a:xfrm>
            <a:off x="380880" y="4038480"/>
            <a:ext cx="3962520" cy="25909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A clause is any group of words with a subject and a verb working together to express a though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DEPENDENT CLAUS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as a subject/verb; expresses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omplet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hought; stands alone a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 simple sentenc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PENDENT CLAUS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as a subject/verb, but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DOES NO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ress a complete thought; can’t stand alone as a sente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own Arrow 5"/>
          <p:cNvSpPr/>
          <p:nvPr/>
        </p:nvSpPr>
        <p:spPr>
          <a:xfrm>
            <a:off x="2057400" y="297180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own Arrow 6"/>
          <p:cNvSpPr/>
          <p:nvPr/>
        </p:nvSpPr>
        <p:spPr>
          <a:xfrm>
            <a:off x="6477120" y="3657600"/>
            <a:ext cx="457200" cy="60948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8001000" cy="5029200"/>
          </a:xfrm>
          <a:prstGeom prst="rect">
            <a:avLst/>
          </a:prstGeom>
          <a:gradFill rotWithShape="0">
            <a:gsLst>
              <a:gs pos="0">
                <a:srgbClr val="ce3b37"/>
              </a:gs>
              <a:gs pos="100000">
                <a:srgbClr val="9b2d2a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 clause that </a:t>
            </a:r>
            <a:r>
              <a:rPr b="0" lang="en-US" sz="3600" spc="-1" strike="noStrike">
                <a:solidFill>
                  <a:srgbClr val="66ffff"/>
                </a:solidFill>
                <a:latin typeface="Calibri"/>
              </a:rPr>
              <a:t>makes sense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by itself is an </a:t>
            </a:r>
            <a:r>
              <a:rPr b="0" lang="en-US" sz="3600" spc="-1" strike="noStrike">
                <a:solidFill>
                  <a:srgbClr val="99ff33"/>
                </a:solidFill>
                <a:latin typeface="Calibri"/>
              </a:rPr>
              <a:t>independent claus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 clause that </a:t>
            </a:r>
            <a:r>
              <a:rPr b="0" lang="en-US" sz="3600" spc="-1" strike="noStrike">
                <a:solidFill>
                  <a:srgbClr val="66ffff"/>
                </a:solidFill>
                <a:latin typeface="Calibri"/>
              </a:rPr>
              <a:t>does not make sense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by itself is a </a:t>
            </a:r>
            <a:r>
              <a:rPr b="0" lang="en-US" sz="3600" spc="-1" strike="noStrike">
                <a:solidFill>
                  <a:srgbClr val="99ff33"/>
                </a:solidFill>
                <a:latin typeface="Calibri"/>
              </a:rPr>
              <a:t>dependent claus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 complex sentence contains an independent and dependent claus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90360" y="1219320"/>
            <a:ext cx="69339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99ff33"/>
                </a:solidFill>
                <a:uFillTx/>
                <a:latin typeface="Calibri"/>
              </a:rPr>
              <a:t>Independent claus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00"/>
                </a:solidFill>
                <a:uFillTx/>
                <a:latin typeface="Calibri"/>
              </a:rPr>
              <a:t>Native Americans lived on the island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500" spc="-1" strike="noStrike">
                <a:solidFill>
                  <a:srgbClr val="000000"/>
                </a:solidFill>
                <a:latin typeface="Calibri"/>
              </a:rPr>
              <a:t>until they were attacked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66ffff"/>
                </a:solidFill>
                <a:latin typeface="Calibri"/>
              </a:rPr>
              <a:t>Dependent claus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Line 6"/>
          <p:cNvSpPr/>
          <p:nvPr/>
        </p:nvSpPr>
        <p:spPr>
          <a:xfrm>
            <a:off x="2362320" y="1828800"/>
            <a:ext cx="19047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7"/>
          <p:cNvSpPr/>
          <p:nvPr/>
        </p:nvSpPr>
        <p:spPr>
          <a:xfrm flipV="1">
            <a:off x="3809880" y="34290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1066680" y="380880"/>
            <a:ext cx="6934320" cy="99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8487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ERE ARE SOME EXAMPLE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NDEPENDENT CLAU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174400"/>
            <a:ext cx="411480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e saw the plane la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serious person sometimes has difficulty relax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oing my homework always pays dividend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new TV season features many new progra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EPENDENT CLAU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fte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we saw the plane land . 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Becaus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 serious person sometimes has difficulty relaxing . 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lthoug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doing my homework always pays dividends . 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h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the new TV season features many new programs . .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rite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for independent or dependent clau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 if you live on an island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 the tides affect your life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 the water level rises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 when the tide comes in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 much of the beach disappears under water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  until the tide goes out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1523880" y="228600"/>
            <a:ext cx="6019920" cy="1295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alibri"/>
              </a:rPr>
              <a:t>So, what can you 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Calibri"/>
              </a:rPr>
              <a:t>do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Calibri"/>
              </a:rPr>
              <a:t>with a dependent claus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en-US" sz="3700" spc="-1" strike="noStrike">
                <a:solidFill>
                  <a:srgbClr val="c00000"/>
                </a:solidFill>
                <a:latin typeface="Calibri"/>
              </a:rPr>
              <a:t>Correct run-on sentences!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Run-On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The plane was late the passengers were angr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Fix the run-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When the plane was late, the passengers were angr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Because the plane was late, the passengers were angr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Improve your sentence structure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en you know how to write dependent clauses, you can turn two short, choppy sentences into one smooth sente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hoppy: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he plane was late. The passengers were ang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Better: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Because the plane was late, the passengers were ang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01:31:03Z</dcterms:created>
  <dc:creator>Panda</dc:creator>
  <dc:description/>
  <dc:language>en-US</dc:language>
  <cp:lastModifiedBy>Administrator</cp:lastModifiedBy>
  <dcterms:modified xsi:type="dcterms:W3CDTF">2011-02-22T20:44:55Z</dcterms:modified>
  <cp:revision>47</cp:revision>
  <dc:subject/>
  <dc:title>THE WONDERFUL WORLD  OF CLAUSES!</dc:title>
</cp:coreProperties>
</file>